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7EE8-CEBE-4871-A79D-962BA4E4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437-484D-4FA5-851E-A9E5673B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4EF3-B0F6-49AD-A3D4-A6C35CD8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8617-CCE7-45F3-9419-AD068E33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5413-3B6A-4FCE-A62D-40917109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877-CE5F-4115-9C7B-40F38129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3C8-4A61-49A1-B985-296F6486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FCB9-07AB-4536-A90E-6435A0E0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7D47-5D9E-4408-99EC-DB59143D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E4D-1536-4656-B2F0-BD95BD15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C332-DD76-4F21-B106-2140F44D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58D-D626-4690-99AE-42351AC3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9ACE-17F6-4570-9264-C1EBB9A44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hool.edu.ru/" TargetMode="External"/><Relationship Id="rId2" Type="http://schemas.openxmlformats.org/officeDocument/2006/relationships/hyperlink" Target="http://school.edu.ru/" TargetMode="External"/><Relationship Id="rId3" Type="http://schemas.openxmlformats.org/officeDocument/2006/relationships/hyperlink" Target="http://school.edu.ru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ПАРТАМЕНТ ОБРАЗОВАНИЯ АДМИНИСТРАЦИИ ГОРОДА ОМ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22860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ация и провед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й ярмарки инновационного опы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учебно-методическому обеспечению учебных кабин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ку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явка (в электронной форме направляется общеобразовательным учреждение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курсные материалы (бумажный вариант до 10 печатных лист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ложения в электронной форме 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диске (презентация, фото автора, фото кабинета(тов), оборудо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раздаточ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ормативные доку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 об образо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циональная образовательная инициатива «Наша нов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 Раздел «Требования к условиям реализации основной общеобразовательной программ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КАЗ Минобрнауки РФ № 986 от 04.10.10 Федеральные требования к образовательным учреждениям в части минимальной оснащенности учебного процесса и оборудования учебных помеще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исьмо  Минобрнауки РФ от 24.11.2011 № МД-1552\03  ОБ ОСНАЩЕНИИ ОБЩЕОБРАЗОВАТЕЛЬНЫХ УЧРЕЖДЕНИЙ УЧЕБНЫМ И УЧЕБНО-ЛАБОРАТОРНЫМ ОБОРУДОВА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ие рекомендации Минобрнауки - Перечень оснащения общеобразовательных учреждений материальной и образовательной средой. Российский общеобразовательный портал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/school.edu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ПиН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4.2.2821-10  № 18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новление Администрации города Омска «Об утверждении методики расчета объемов расходов бюджета города Омска на реализацию расходного обязательства в сфере образования» от 29.06.2009 № 495. Приложение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уктура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ходное состояние объекта проект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цепция изменений, их инновацио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и, задачи проекта, этапы ре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 реализации проекта, если есть – бизнес-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лагаемые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авление, партнеры, ресурсы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ерии эффективности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ыт реализации проекта, результат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спективы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исание опыта обеспечения образовательной ср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уальность. Описание объекта обеспечения образовательной среды до участия ав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, задачи, планирование обеспечения образовательной среды данного учреждения, каби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ние опыта (инновационность, особенности опыта, что позволяет автору сформировать, каких результатов достигну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деятельности и перспекти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ложение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диск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я (основное содержание, иллюстрации, схемы, фото, возможны ссылки на документы, регламентирующие деятельность учреждения, документы, иллюстрирующие результатив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2 фото автора  в форма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PI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то кабинета, оборудования в форма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P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нный образец раздаточного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igorec</cp:lastModifiedBy>
  <dcterms:modified xsi:type="dcterms:W3CDTF">2012-10-12T02:45:19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